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gif" ContentType="image/gif"/>
  <Override PartName="/ppt/media/image8.jpeg" ContentType="image/jpeg"/>
  <Override PartName="/ppt/media/explode.wav" ContentType="audio/x-wav"/>
  <Override PartName="/ppt/media/image7.jpeg" ContentType="image/jpeg"/>
  <Override PartName="/ppt/media/image6.png" ContentType="image/png"/>
  <Override PartName="/ppt/media/image3.gif" ContentType="image/gif"/>
  <Override PartName="/ppt/media/image5.gif" ContentType="image/gif"/>
  <Override PartName="/ppt/media/image14.jpeg" ContentType="image/jpeg"/>
  <Override PartName="/ppt/media/chimes.wav" ContentType="audio/x-wav"/>
  <Override PartName="/ppt/media/MTC_002.WAV" ContentType="audio/x-wav"/>
  <Override PartName="/ppt/media/image16.jpeg" ContentType="image/jpeg"/>
  <Override PartName="/ppt/media/image20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5.png" ContentType="image/png"/>
  <Override PartName="/ppt/media/image13.jpeg" ContentType="image/jpeg"/>
  <Override PartName="/ppt/media/image12.jpeg" ContentType="image/jpeg"/>
  <Override PartName="/ppt/media/MTC_003.WAV" ContentType="audio/x-wav"/>
  <Override PartName="/ppt/media/image1.jpeg" ContentType="image/jpeg"/>
  <Override PartName="/ppt/media/image4.gif" ContentType="image/gif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7EC7-F394-4856-908E-6790504BE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1F5D-E22D-4306-9EE0-75DDBE748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506B-07C9-4349-B134-2B72BD0B9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38E8-F41B-4903-974A-177C5D336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1D74-51FD-4E23-BDA2-68192CCF9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0501-0BB9-4655-8443-A3E84EA39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784C-9221-426F-907A-0081CFDA1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FAAF-9E08-4D66-A536-C9A5C3521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3888-57E2-4272-9DB6-C648FF144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1E70-9E29-44D3-8C7B-2A29A333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5DEA9-7788-467B-B2BD-197EE6C9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AEB63-51B0-4256-9F71-FB7AD8D4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8DF95-6706-4B9F-9ECB-D5274414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1F1AE-A199-4369-81EC-392F324C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A6323-B912-4F78-96E2-4F251012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4FB69-FA35-4F4C-8942-53A4AEA9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D4C38-F2DE-4500-BF9B-BE01D73B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827C5-49C7-4FAB-97A2-35A5033B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B6DF8-4213-429F-A313-62956E4C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B0224-A53D-4DDA-AEB0-4FBC5C21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0C2E-7CAD-431A-A013-7CC4B828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9ECA6-5B75-428E-9317-EB72AFA1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36602-2782-4114-9709-DF523585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2EF3A-E506-4D6D-AD5D-A727D49A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51127-5187-4612-98BF-776CE9AB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AC160-8C32-4A27-AB8B-ECD30A33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80F53-351F-4D71-A508-2F63CD04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2ECD4-C4C1-4FC3-B030-3E0F6EFC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2B2DD-F255-42E3-A036-BE47CD7D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92C64-5901-4569-B3AC-58CD6E58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D3D05-FE04-4701-95B8-75FC13AE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268F-CC74-4114-9BF1-C8F12B49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FCDD6-80E2-4E3C-BE04-30024032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A2466-C68A-41FE-AEA7-65DB8D93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90E82-91C4-4D38-AA03-8AE4D248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F9A4D-712F-41EF-9C04-2BFE21EA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D6363-6C37-4B4E-8A0A-2C949F21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69D46-6AD6-4917-9A2E-F1E2E7BE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5716C-A2FB-4712-AEA7-56376190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43BDD-C943-4A2A-89CF-92552FE9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85717-617A-4D2D-92F1-3CD704B3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18C74-F83D-412F-8871-3A3E99BA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0F48-8C6D-4F4C-848E-E43A8C74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E7386-18FC-4E5C-AD98-BB452232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D087B-7D10-4DC1-BC50-4F832F51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378FD-45FF-4092-956A-17FCA912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9603E-5BB8-4622-BB73-18277D58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DE309-0A26-4950-A681-80E87309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EAB9E-C667-4326-BB60-D32DB1F8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44923-C273-4530-A472-03D89E1E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4E86A-47BB-4FF8-98B7-98B31EB9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50D35-74B4-419A-AC65-68DC3DB5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BA377-4E05-4E11-8B7D-ED3B0EA5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1FB1-495D-4F04-B925-BD952D80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99B6F-D4F2-4AB1-B135-9811FDA0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25732-24C8-4AE2-B3F1-C7DC5D0C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D6753-56DF-41C7-B914-1EED9FD3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22C60-F55D-4E66-ACC1-3301A170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BDD79-5716-4FB5-B49C-A57E1E27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8061B2-939B-4E12-8F46-D4AA8EF0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5F03AB-D253-4E4D-BE9C-65CC0E49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2C2F50-78F0-41E1-B73B-6F45CC82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076B3E-B673-4C16-A310-D108DE10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E2AEE7-F410-4746-BC9B-9C6D862E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8696-3AAC-4B92-BD4B-681F9C08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5F2B7F-1CCA-4B45-BC5A-D718FC86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9DA1BA-6CA0-49C9-B897-2464CA90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F98095-AE87-4BD2-8AB1-C8903334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31FF0-57BF-446E-9DA2-0A2F1AA5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92B11-918B-4389-A7FE-EE4D3B67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A90018-3475-48F8-BDC7-91C1434F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655DE6-C41D-4452-BD04-DF9C9BD0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AA81-4DE6-4D97-A8F6-86941BF4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2FBF-4FEF-4DC4-A8A0-3E402AD3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9845-2971-4E87-BA7C-7B3BAA23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FB98-85C4-45C5-B0FF-920F55FD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72AE-DAB1-4AD6-B8E3-DC068C89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AEE1-51C9-40F9-883B-F4CD1C3F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EDA3-9A1D-4AEE-9FD1-75B97D68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7B2B-A3EE-4E22-8F9F-E6058B21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70FE-E619-4F91-B1C0-1B67D902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B8A3-52F0-4735-BEA4-BE550236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81F2F-DF2E-4984-B1A0-72FB1936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C15FE-63E5-495F-A4F5-2CB889DA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BD372-5E57-4E39-B9C0-8156D287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55FB1-D9B7-4A42-B955-03DF2DAD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29B19-68F1-4742-8816-AE8E004A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1245-C4F3-4926-B210-B43172C1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CDBD3-8C1A-4A18-B351-B9065129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C0A78-5400-4BBF-AA34-F2783004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D43F9-DEEE-44F9-B089-AB1C232D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302C0-112A-416E-ADE0-A16D4846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DCEA0-EFB4-4E5E-B7B6-CEFF713E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D0EA8-63E0-44FC-AF01-943739B6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BA47A-A9E9-40B4-BFA7-B8DE27DA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673B2-2C50-4F26-A659-5FE87045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670A3-363D-45D8-90FE-C83C0AFD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88C69-E727-4213-B749-96023F21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0304-790E-4611-9E6C-B6412F16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CF2C3-DD27-4AD8-9794-DB532C9E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470F5-EA2B-4AF3-81EA-4B37F809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A77D9-8D78-4440-A86A-8D1989DC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F370C-AA14-4EC0-BCD3-4CD6552F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CF7CA-9DCC-421F-81BE-C6607064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18F81-40DB-450F-949A-57890729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94027-BB18-43A0-9B4A-E263B2B6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8639E-75D6-464A-B0A7-F0848ECD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1DAF7-E9DE-412B-8122-8733AA0A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12D64-863F-43D0-90DD-2F71C37F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9B8B-E028-4B3D-A52B-9836789B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8ABF1-1A27-43C1-81D6-172F6BD8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52503-2E78-481B-BAE4-0168821F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8AF3F-C225-4FB2-B02A-6AEB756C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A6B7A-A6B1-4B3C-8B61-59FF849B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CFD2E-B413-42AA-A068-1093DBD6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C209C-2B10-4FBF-966D-3A554EAD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0652E-1385-4E95-AC71-546298D1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091AF-A35C-4B6F-A7E1-143B2D12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17BC4-8A02-40A0-ADF4-22CD8FB8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6EDCE-61FB-4D8B-8DCC-DF677E5F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617A-1AB7-4592-9A6F-A63AEDF5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2C781-6746-40CE-98F2-27E41545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B971C-9703-4B4C-9026-C77174BE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8ED99-FDB2-4D00-BE36-B473AF21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58694-82B6-4337-A9E1-107A9503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29FEB-7BD8-468A-A53F-C2663509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B3C4D-4380-4049-BE0A-410FC9F5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BD76D-9403-4155-BD75-305E37F0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ED58C-0FF0-4D41-87F0-E813ECE4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8B037-5B62-49F8-BD1D-58DA61E9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50A64-074A-4C35-A45A-4D2C9E5A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DD43-7794-476E-841B-14DC83BF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A702E-FB47-4D34-9AED-3FE49D4D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02121-9D00-43E8-931E-7A848063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4473A-A2FC-4ACD-8F64-BC31576A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0BCF7-A59E-46E3-BFE3-443C52C3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FB41D-DD09-4DAA-BC71-02CD438A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A1784-BAF6-4B1F-9A64-161AA51C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B195F-4048-4238-9168-D636E030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470D4-E804-45B6-B80F-BF168F6E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C6775-E525-4302-A39A-0EDB4558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36471-AA16-4945-A8B2-2B532C32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D30E-A9F4-4580-9E07-1BBCDB16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75E6A-368F-4B79-B736-5052B82F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601A9-04EA-4688-8043-00444FCD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247D3-F341-4135-9FAE-3D0F4917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D2955-07DA-497B-9E7B-C002B01C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5CFCB-6DBE-44F6-A378-18267931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8AE3F-A2E7-4053-B346-CF2EF177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08096-0186-4820-A319-31218D0F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2F78B-4429-43F3-AC7C-3013F0D2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8B087-E71F-4CD8-9285-CFDA4331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4FE3E-BC5C-4744-BA0A-6F56D04C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DB0B-A93B-4308-9A85-D459C34C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27BF5-535A-4ECB-804A-A1EC4E1D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FB220-72EE-432B-B802-FF75B31C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06AC1-9FCE-4073-8722-848FBFF3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03696-2E96-4725-ABF1-199212AA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A8C8F-DAC8-432E-BCA1-806F581D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08009-B2EE-48C3-8F19-F45860AD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14643-EFF5-4CF1-AF4F-017D15F8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0E96C-2CE7-4A50-BF07-C31FD4CA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6795B-7F54-4739-9D00-7C7CFEAB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A1B9E-A42D-4E2D-9047-F20C6D7F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31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2C8A-8B28-4FB3-91C4-697CD6DCD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CBE4-3C0A-4AED-B0BC-F5F080D36D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21E1-0EA2-4AB9-9C2B-434EEEDED6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12C7-9408-494C-8095-E931ED0A06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BC29-6471-4654-991F-5D2EEEDF9C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3CFA-2ECA-4AD4-99FF-87C7F737AD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7F78-F48E-4E6B-9DFF-6C957B1026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0E4C-5937-43FA-BDD0-8357401E78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DF96-FBE1-436A-ADDD-986C5E7B94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7CDD-75D7-4D40-8BE1-C4243BED7B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2CF9-C0EF-4D90-A716-EAFD715449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71B8-D4D4-4CD0-B0C2-1B5FE3C16A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F016-7FFE-432B-BB4F-7B7E705D25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97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audio" Target="../media/chimes.wav"/><Relationship Id="rId5" Type="http://schemas.openxmlformats.org/officeDocument/2006/relationships/audio" Target="../media/MTC_002.WAV"/><Relationship Id="rId6" Type="http://schemas.openxmlformats.org/officeDocument/2006/relationships/audio" Target="../media/MTC_003.WAV"/><Relationship Id="rId7" Type="http://schemas.openxmlformats.org/officeDocument/2006/relationships/slideLayout" Target="../slideLayouts/slideLayout97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背景"/>
          <p:cNvPicPr/>
          <p:nvPr/>
        </p:nvPicPr>
        <p:blipFill>
          <a:blip r:embed="rId1"/>
          <a:srcRect l="4323" t="7159" r="6684" b="7304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ANI_128"/>
          <p:cNvPicPr/>
          <p:nvPr/>
        </p:nvPicPr>
        <p:blipFill>
          <a:blip r:embed="rId2"/>
          <a:stretch/>
        </p:blipFill>
        <p:spPr>
          <a:xfrm>
            <a:off x="1042920" y="1413000"/>
            <a:ext cx="770040" cy="7696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" descr="ANI_153"/>
          <p:cNvPicPr/>
          <p:nvPr/>
        </p:nvPicPr>
        <p:blipFill>
          <a:blip r:embed="rId3"/>
          <a:stretch/>
        </p:blipFill>
        <p:spPr>
          <a:xfrm rot="21302400">
            <a:off x="-20160" y="1932120"/>
            <a:ext cx="10845720" cy="218124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5"/>
          <p:cNvSpPr/>
          <p:nvPr/>
        </p:nvSpPr>
        <p:spPr>
          <a:xfrm>
            <a:off x="1835280" y="1557360"/>
            <a:ext cx="273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Comic Sans MS"/>
              </a:rPr>
              <a:t>Unit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6" descr="ANI_129"/>
          <p:cNvPicPr/>
          <p:nvPr/>
        </p:nvPicPr>
        <p:blipFill>
          <a:blip r:embed="rId4"/>
          <a:stretch/>
        </p:blipFill>
        <p:spPr>
          <a:xfrm>
            <a:off x="3924360" y="14130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7" descr="CUTS_020"/>
          <p:cNvPicPr/>
          <p:nvPr/>
        </p:nvPicPr>
        <p:blipFill>
          <a:blip r:embed="rId5"/>
          <a:stretch/>
        </p:blipFill>
        <p:spPr>
          <a:xfrm>
            <a:off x="3962520" y="533520"/>
            <a:ext cx="609480" cy="56988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8"/>
          <p:cNvSpPr/>
          <p:nvPr/>
        </p:nvSpPr>
        <p:spPr>
          <a:xfrm rot="21172800">
            <a:off x="1692360" y="2708280"/>
            <a:ext cx="774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99"/>
                </a:solidFill>
                <a:latin typeface="Comic Sans MS"/>
                <a:ea typeface="宋体"/>
              </a:rPr>
              <a:t>School Th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  <p:sndAc>
      <p:stSnd>
        <p:snd r:embed="rId6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0" autoRev="1" fill="hold"/>
                                        <p:tgtEl>
                                          <p:spTgt spid="5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6" descr=""/>
          <p:cNvPicPr/>
          <p:nvPr/>
        </p:nvPicPr>
        <p:blipFill>
          <a:blip r:embed="rId1"/>
          <a:srcRect l="0" t="0" r="0" b="80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" descr=""/>
          <p:cNvPicPr/>
          <p:nvPr/>
        </p:nvPicPr>
        <p:blipFill>
          <a:blip r:embed="rId2"/>
          <a:srcRect l="29703" t="18427" r="26058" b="12741"/>
          <a:stretch/>
        </p:blipFill>
        <p:spPr>
          <a:xfrm>
            <a:off x="2357280" y="285840"/>
            <a:ext cx="4143600" cy="405756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3"/>
          <p:cNvSpPr/>
          <p:nvPr/>
        </p:nvSpPr>
        <p:spPr>
          <a:xfrm>
            <a:off x="1436760" y="4214880"/>
            <a:ext cx="80643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Fight to the 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让我们一起闯七关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争当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优秀活动组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  <p:sndAc>
      <p:stSnd>
        <p:snd r:embed="rId3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4" descr="大富翁2"/>
          <p:cNvPicPr/>
          <p:nvPr/>
        </p:nvPicPr>
        <p:blipFill>
          <a:blip r:embed="rId1"/>
          <a:srcRect l="0" t="0" r="0" b="580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" descr="baoruan_com_130938_6_176x220_src"/>
          <p:cNvPicPr/>
          <p:nvPr/>
        </p:nvPicPr>
        <p:blipFill>
          <a:blip r:embed="rId2"/>
          <a:stretch/>
        </p:blipFill>
        <p:spPr>
          <a:xfrm>
            <a:off x="395280" y="1698480"/>
            <a:ext cx="723960" cy="9064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" descr="10040210155bbea725703fecc3"/>
          <p:cNvPicPr/>
          <p:nvPr/>
        </p:nvPicPr>
        <p:blipFill>
          <a:blip r:embed="rId3"/>
          <a:stretch/>
        </p:blipFill>
        <p:spPr>
          <a:xfrm>
            <a:off x="2195640" y="907920"/>
            <a:ext cx="2181240" cy="3335400"/>
          </a:xfrm>
          <a:prstGeom prst="rect">
            <a:avLst/>
          </a:prstGeom>
          <a:ln w="0">
            <a:noFill/>
          </a:ln>
        </p:spPr>
      </p:pic>
      <p:sp>
        <p:nvSpPr>
          <p:cNvPr id="555" name="AutoShape 7"/>
          <p:cNvSpPr/>
          <p:nvPr/>
        </p:nvSpPr>
        <p:spPr>
          <a:xfrm>
            <a:off x="4356000" y="981000"/>
            <a:ext cx="2521080" cy="17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8"/>
          <p:cNvSpPr/>
          <p:nvPr/>
        </p:nvSpPr>
        <p:spPr>
          <a:xfrm>
            <a:off x="4429080" y="928800"/>
            <a:ext cx="3429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Round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说一说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做一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  <p:sndAc>
      <p:stSnd>
        <p:snd r:embed="rId4" name="chimes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TC_002.WAV"/>
                                        </p:tgtEl>
                                      </p:cMediaNode>
                                    </p:audio>
                                    <p:animMotion origin="layout" path="M -0.00382 -0.05436 C -0.01389 -0.08304 -0.02378 -0.1115 -0.02014 -0.1344 C -0.01649 -0.1573 0.00677 -0.18228 0.01858 -0.19223 C 0.03021 -0.20217 0.03941 -0.19639 0.05087 -0.19385 C 0.06216 -0.1913 0.07917 -0.18783 0.08681 -0.17673 C 0.09445 -0.16562 0.09063 -0.15336 0.0967 -0.12653 C 0.10278 -0.0997 0.1165 -0.03817 0.12292 -0.01527 C 0.12934 0.00763 0.12778 0.00463 0.13542 0.01157 C 0.14323 0.01851 0.15643 0.02267 0.1691 0.02707 C 0.18177 0.03146 0.20157 0.04465 0.21129 0.03817 C 0.22101 0.03169 0.22344 -0.00254 0.22743 -0.01203 C 0.23143 -0.02151 0.23368 -0.01989 0.23611 -0.01827 E">
                                      <p:cBhvr>
                                        <p:cTn id="29" dur="3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TC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u=861250345,427642348&amp;fm=90&amp;gp=0">
            <a:hlinkClick r:id="rId1" action="ppaction://hlinksldjump"/>
          </p:cNvPr>
          <p:cNvPicPr/>
          <p:nvPr/>
        </p:nvPicPr>
        <p:blipFill>
          <a:blip r:embed="rId2"/>
          <a:srcRect l="0" t="0" r="0" b="6470"/>
          <a:stretch/>
        </p:blipFill>
        <p:spPr>
          <a:xfrm>
            <a:off x="755640" y="1341360"/>
            <a:ext cx="2808360" cy="208764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3"/>
          <p:cNvSpPr/>
          <p:nvPr/>
        </p:nvSpPr>
        <p:spPr>
          <a:xfrm>
            <a:off x="539640" y="414972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  ba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2268360" y="981000"/>
            <a:ext cx="1800360" cy="792360"/>
          </a:xfrm>
          <a:prstGeom prst="cloudCallout">
            <a:avLst>
              <a:gd name="adj1" fmla="val 23722"/>
              <a:gd name="adj2" fmla="val 1463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2484360" y="1052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! I’m        Mr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ac75323d6b6de243-6f95e32275e1e6d6-624101956f714d3bac4cef789f50a2d9"/>
          <p:cNvPicPr/>
          <p:nvPr/>
        </p:nvPicPr>
        <p:blipFill>
          <a:blip r:embed="rId3"/>
          <a:srcRect l="0" t="0" r="0" b="7843"/>
          <a:stretch/>
        </p:blipFill>
        <p:spPr>
          <a:xfrm>
            <a:off x="4932360" y="1341360"/>
            <a:ext cx="3276720" cy="165888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7"/>
          <p:cNvSpPr/>
          <p:nvPr/>
        </p:nvSpPr>
        <p:spPr>
          <a:xfrm>
            <a:off x="4643280" y="4292640"/>
            <a:ext cx="39610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 b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  <p:sndAc>
      <p:stSnd>
        <p:snd r:embed="rId4" name="chimes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3"/>
          <p:cNvSpPr/>
          <p:nvPr/>
        </p:nvSpPr>
        <p:spPr>
          <a:xfrm>
            <a:off x="539640" y="450864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ncil   c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4" descr="dccb2aba8b921586-417a6f74daeedb62-62d615d579b6de14d0b0a5bdc93ecdbb"/>
          <p:cNvPicPr/>
          <p:nvPr/>
        </p:nvPicPr>
        <p:blipFill>
          <a:blip r:embed="rId1"/>
          <a:srcRect l="0" t="0" r="0" b="12530"/>
          <a:stretch/>
        </p:blipFill>
        <p:spPr>
          <a:xfrm>
            <a:off x="5429160" y="642960"/>
            <a:ext cx="3492720" cy="300024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5"/>
          <p:cNvSpPr/>
          <p:nvPr/>
        </p:nvSpPr>
        <p:spPr>
          <a:xfrm>
            <a:off x="4356000" y="4724280"/>
            <a:ext cx="446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four  pencil c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6" descr=""/>
          <p:cNvPicPr/>
          <p:nvPr/>
        </p:nvPicPr>
        <p:blipFill>
          <a:blip r:embed="rId2"/>
          <a:stretch/>
        </p:blipFill>
        <p:spPr>
          <a:xfrm>
            <a:off x="571680" y="1143000"/>
            <a:ext cx="3390840" cy="2400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</p:spTree>
  </p:cSld>
  <p:transition>
    <p:push dir="r"/>
    <p:sndAc>
      <p:stSnd>
        <p:snd r:embed="rId3" name="chimes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74ebe0bf8b246922-6202f549befd4af7-81511efe31e42658d289034a7901e71d"/>
          <p:cNvPicPr/>
          <p:nvPr/>
        </p:nvPicPr>
        <p:blipFill>
          <a:blip r:embed="rId1"/>
          <a:stretch/>
        </p:blipFill>
        <p:spPr>
          <a:xfrm>
            <a:off x="755640" y="765000"/>
            <a:ext cx="3311640" cy="324036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3"/>
          <p:cNvSpPr/>
          <p:nvPr/>
        </p:nvSpPr>
        <p:spPr>
          <a:xfrm>
            <a:off x="611280" y="4581360"/>
            <a:ext cx="3744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 m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4" descr="39c9ce3a7deaf96d-a402d9fc9e025201-ba2015146d07dbd506e550c8b45ef8ea"/>
          <p:cNvPicPr/>
          <p:nvPr/>
        </p:nvPicPr>
        <p:blipFill>
          <a:blip r:embed="rId2"/>
          <a:srcRect l="0" t="0" r="0" b="10740"/>
          <a:stretch/>
        </p:blipFill>
        <p:spPr>
          <a:xfrm>
            <a:off x="4284720" y="907920"/>
            <a:ext cx="4859280" cy="302112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5"/>
          <p:cNvSpPr/>
          <p:nvPr/>
        </p:nvSpPr>
        <p:spPr>
          <a:xfrm>
            <a:off x="4284720" y="4869000"/>
            <a:ext cx="4535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two 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  <p:sndAc>
      <p:stSnd>
        <p:snd r:embed="rId3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9" dur="3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e79a8706efd117f6-d20c2c70387e4933-3c23aeb0f43acaddc66e15f8fed0d364_i"/>
          <p:cNvPicPr/>
          <p:nvPr/>
        </p:nvPicPr>
        <p:blipFill>
          <a:blip r:embed="rId1"/>
          <a:srcRect l="0" t="0" r="0" b="6670"/>
          <a:stretch/>
        </p:blipFill>
        <p:spPr>
          <a:xfrm>
            <a:off x="684360" y="836640"/>
            <a:ext cx="3512880" cy="30924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3"/>
          <p:cNvSpPr/>
          <p:nvPr/>
        </p:nvSpPr>
        <p:spPr>
          <a:xfrm>
            <a:off x="1042920" y="5013360"/>
            <a:ext cx="2952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i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4" descr="39c9ce3a7deaf96d-adf6b5fa2e25bcf3-3f9e24971e447d836d726324216f1816"/>
          <p:cNvPicPr/>
          <p:nvPr/>
        </p:nvPicPr>
        <p:blipFill>
          <a:blip r:embed="rId2"/>
          <a:srcRect l="0" t="0" r="0" b="4280"/>
          <a:stretch/>
        </p:blipFill>
        <p:spPr>
          <a:xfrm>
            <a:off x="4716360" y="907920"/>
            <a:ext cx="2232000" cy="27352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" descr="517cd4387aedf40b-3c5ef4e7adf21917-0e2df44453d9648473b74992ae08a982_i"/>
          <p:cNvPicPr/>
          <p:nvPr/>
        </p:nvPicPr>
        <p:blipFill>
          <a:blip r:embed="rId3"/>
          <a:stretch/>
        </p:blipFill>
        <p:spPr>
          <a:xfrm>
            <a:off x="6448320" y="907920"/>
            <a:ext cx="2695680" cy="280836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6"/>
          <p:cNvSpPr/>
          <p:nvPr/>
        </p:nvSpPr>
        <p:spPr>
          <a:xfrm>
            <a:off x="4932360" y="4508640"/>
            <a:ext cx="367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pi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  <p:sndAc>
      <p:stSnd>
        <p:snd r:embed="rId4" name="chimes.wav"/>
      </p:stSnd>
    </p:sndAc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2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2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8T02:41:59Z</dcterms:created>
  <dc:creator/>
  <dc:description/>
  <dc:language>en-US</dc:language>
  <cp:lastModifiedBy/>
  <dcterms:modified xsi:type="dcterms:W3CDTF">2016-12-28T03:28:47Z</dcterms:modified>
  <cp:revision>1</cp:revision>
  <dc:subject/>
  <dc:title/>
</cp:coreProperties>
</file>